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64995"/>
        <c:axId val="26277701"/>
      </c:barChart>
      <c:catAx>
        <c:axId val="12264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77701"/>
        <c:crosses val="autoZero"/>
        <c:auto val="1"/>
        <c:lblAlgn val="ctr"/>
        <c:lblOffset val="100"/>
        <c:noMultiLvlLbl val="0"/>
      </c:catAx>
      <c:valAx>
        <c:axId val="26277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64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E45-1BC6-4045-8544-C839C0A0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B62-A44F-4F15-A91F-BFF19C3A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E41-10CE-4731-9197-A0130EFF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814-809C-4F6C-9039-2E379239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E5A-E68A-4424-8D18-EDAE9332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E6A-48BE-4170-80E5-B0A82D4A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9A5-8982-4955-8F83-9D211AC5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C87-DEEF-4026-9197-79D4BD1C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9F3-DC60-44FE-9AFF-A52DC39C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7C5-AF67-4A63-BC79-2224799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AC9-36FC-469C-9AC2-27D0FE70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4B7-9C71-4710-A7B1-1A8A6E1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8FCD-F667-4B73-82C9-04FC3A6DAA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