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12405"/>
        <c:axId val="36722320"/>
      </c:barChart>
      <c:catAx>
        <c:axId val="17812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22320"/>
        <c:crosses val="autoZero"/>
        <c:auto val="1"/>
        <c:lblAlgn val="ctr"/>
        <c:lblOffset val="100"/>
        <c:noMultiLvlLbl val="0"/>
      </c:catAx>
      <c:valAx>
        <c:axId val="36722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12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4B6-909B-4723-B89A-65ABC9D2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63F-71E2-4A92-A756-BE9C9DE2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E2A-69E0-43E8-83ED-E8783F05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EF7-A088-42DA-A27C-A9C30924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B04-9F24-40EE-B7AE-549A6BEB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3F5-C841-4243-BBBE-79A15386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BF1-FDD9-46F2-A05E-B04BB3C4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175-1EF2-4EE3-99DC-5B9B95FB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667-65FF-463F-922C-EAE33BC1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676-39C6-427C-AB84-EBBAC482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460-56CF-4C1C-8F84-7C1519B4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3E8-0A78-4833-B05F-13FEC9E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1235A-285F-46FB-8A1F-10E1AFF370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