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38116"/>
        <c:axId val="48207459"/>
      </c:barChart>
      <c:catAx>
        <c:axId val="18738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07459"/>
        <c:crosses val="autoZero"/>
        <c:auto val="1"/>
        <c:lblAlgn val="ctr"/>
        <c:lblOffset val="100"/>
        <c:noMultiLvlLbl val="0"/>
      </c:catAx>
      <c:valAx>
        <c:axId val="48207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8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43F-0F4C-4AB3-BD0C-F171F47C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085-164A-45B1-AB5A-A686DA26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0E4-F0EB-4F7F-8946-D9720F8B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C00-F5C1-4FD7-888B-4D36CBEC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E73-EF09-4FF2-B9AC-0222F5E2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DC5-0D08-4A4D-BBA2-6C9F4F28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FC8-911A-4784-B0E1-0CDC196D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E77-1955-441E-9AAA-87A7395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7CA-F382-45EC-ACEE-CED6159E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667-19AF-4ABA-A889-5D68836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E8A-2A53-45A3-8435-6BA3B42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580-2021-4A3B-B966-14626C6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98304-7FC3-4F5A-80D4-4ECEC102F0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