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91626"/>
        <c:axId val="66317827"/>
      </c:barChart>
      <c:catAx>
        <c:axId val="26091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17827"/>
        <c:crosses val="autoZero"/>
        <c:auto val="1"/>
        <c:lblAlgn val="ctr"/>
        <c:lblOffset val="100"/>
        <c:noMultiLvlLbl val="0"/>
      </c:catAx>
      <c:valAx>
        <c:axId val="66317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91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DE81-683B-4997-99FA-F1E56754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7E1-BA04-486E-A68E-4B473151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5DC-5AAE-4927-A6EF-AEB4A156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B7BD-6A53-4827-A0B6-BE4A4F71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34E-426B-4A6D-A7F3-9DD45DAC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755-6152-482E-B6DC-4EDFB24B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D7C-99CC-4FBA-840D-ACCBA64B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D78-EAD7-419B-B45A-4B1277D8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627-1060-4E57-A872-3751C80D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C09-663E-4B70-B0AC-02EDB055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B48-1AAA-4C3A-AA8E-5F4604AC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73A-2826-4164-815A-C9F6BB0E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CDB99-2014-4917-9D6F-14D855F713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