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57964"/>
        <c:axId val="68583370"/>
      </c:barChart>
      <c:catAx>
        <c:axId val="32157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3370"/>
        <c:crosses val="autoZero"/>
        <c:auto val="1"/>
        <c:lblAlgn val="ctr"/>
        <c:lblOffset val="100"/>
        <c:noMultiLvlLbl val="0"/>
      </c:catAx>
      <c:valAx>
        <c:axId val="68583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57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530-E5CF-49B6-9A27-1A60FA19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F21-F3CE-4F25-8DF1-FB1323A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40E-06A6-483D-899D-C00EE059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1F9-90F9-422A-B309-76E3E3A8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6B8-A83C-4E7E-881B-959B64A6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81F-3155-4506-AD92-CA8D8A10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C2B-3016-4D46-AD53-57CD9592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557-F3BE-4FDC-86BE-C3B8D415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FD2-6B43-469A-84E6-66F7D3B3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EF9-1783-4119-901A-845C18C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496-1DB2-461C-84AC-34106B8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1E1-2E5A-4F32-AB6D-78F9AB0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0B7D9-5E96-4C97-9D6E-8F685B8CC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