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27519"/>
        <c:axId val="98973272"/>
      </c:barChart>
      <c:catAx>
        <c:axId val="27527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73272"/>
        <c:crosses val="autoZero"/>
        <c:auto val="1"/>
        <c:lblAlgn val="ctr"/>
        <c:lblOffset val="100"/>
        <c:noMultiLvlLbl val="0"/>
      </c:catAx>
      <c:valAx>
        <c:axId val="98973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27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7F4-4827-420D-8405-3C8B04BF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808-088B-42D3-9204-F63E7471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D41-593E-4637-A917-87951390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878-0F51-42C7-A09D-383CA200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390-DCDD-412B-917E-A1C8EAB9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BAD-24D7-40F0-994C-D7F63F7F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B8C-F259-4A71-9732-CB988585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6E1-2284-4E9C-9DDA-BA2827D4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631-7BED-4D59-8848-90547FA6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E5C-A26F-4805-B5E0-5A27CCD5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53C-5A32-431D-BEB9-FFCFB8E8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BFF-056C-41AC-934B-F5F7F7B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1B639-DAF1-452A-8502-C728435D1D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