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48881"/>
        <c:axId val="87795570"/>
      </c:barChart>
      <c:catAx>
        <c:axId val="11748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95570"/>
        <c:crosses val="autoZero"/>
        <c:auto val="1"/>
        <c:lblAlgn val="ctr"/>
        <c:lblOffset val="100"/>
        <c:noMultiLvlLbl val="0"/>
      </c:catAx>
      <c:valAx>
        <c:axId val="87795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48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EFA-DAE6-409A-80C4-2441048D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91D-8DA7-4F4A-B6B2-F06C01B7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4A5-CB16-401F-9D33-CC36DF3E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C1C-3983-4602-8663-1C8EACBC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5AC-02EC-463F-A98E-2975BCF1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847-BB69-4FC5-BA86-85001891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A49-8331-463A-81CC-FC0202CC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7E6-836B-4B96-847A-235B7638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DCE-582E-4B4E-AA07-FE82D3C5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CB5-8E91-44DB-9547-D280D1FD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152-15B3-4BED-892D-9B2C1C23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EC3-02B6-40D5-B9DB-580391BB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24508-3A59-48AC-85E6-06F89A00F8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